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8.png" ContentType="image/png"/>
  <Override PartName="/ppt/media/image1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6502-54EC-42A6-B39D-167A8B07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3115-9BA8-45F2-812D-7FDC8058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44350-30EE-45E9-90B8-51F38E2F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5C61C-B679-4559-8250-E5A93FAD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092B1-CBF6-4EAE-AFD8-12E8C430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11122-4A8C-404C-9FAF-21F7A6B3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50970-475C-4109-9E21-B009DC3D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4F6FD-80DE-43FD-A264-EC9BEA0E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5483B-CC0C-4A2E-AD25-CD51B772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21F9C-49FD-4F7B-98A3-0EB966387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5865A-FBE2-42C7-9738-EA53CC72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254C9-4CD1-461D-BAF4-FA5B52135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68AC-8FE2-4C3E-ADD0-B21D07C9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BD03B0-82F5-4C2F-A3DB-59A3AA54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6E088-775C-4D43-A743-47E32D3D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B6FF5-8BDE-44A1-8B37-75ECAE8F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83BCD4-2E86-4660-9EFB-64A7BA88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C8E5A-5A55-469B-9FFF-3D3C9485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95429-6410-463B-8F5A-B2EFFFC0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BF9B7-28C8-4B05-AB7A-77100744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A6272-2EEC-4561-833A-46CA6C3A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084274-3CB7-4A4F-8AEB-ADA74316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053B01-9685-4933-924B-AFA8A61D3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292E-D038-4FB2-AE3D-5DBCD09DB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C75AA-ABAB-4657-B040-8A9F3CCD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BD3A8-7B2A-4A86-915C-1405BF9B8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5AD96-E122-4B59-A593-E95F1A1B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D8388-FF11-4A17-981A-AE0E0344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F54BB-24A6-4B45-9BF3-6ABB76AF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F1C33-1171-43A6-BF00-063B01B7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38CA7-62C8-4695-98C0-7E3625A5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666C9-2E6D-45DD-919D-C6BE8F8F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600A0-BDA9-4991-AC03-352AF18B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3E6E9-9E5C-4995-A955-811B5BEC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7D2C-5C6A-4B38-B969-332B5EE3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60F97-6650-4CEC-B6B3-D31C2E08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D7113-056C-4A6C-A0F7-011C2D116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D3DA9-29A5-40AE-89A7-49202CBCD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C9197B-5D59-4539-BBD3-92685A85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908A0B-C4DC-46F7-8BDC-542E6177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173890-26AF-4CEB-B01E-9F477AF3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E24CC-9955-4E9A-A464-EBBE3C9C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70D7B-6EAA-42A8-88FC-090BC4CC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89C320-F6C7-44E8-B383-85BA72B0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9BA93-B714-4F7B-B9FF-9DD0F38D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2224-51E8-42A1-81BC-A3922222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AE087A-FE12-4089-9618-265F07A8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BA844-46EE-4065-8C21-86A280B8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9AE84-6159-499A-AE37-BD61C5F0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D8C774-AE0F-468B-8688-A8DF8AF8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DBD79-FF55-4816-92F3-837E27DBD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21A7-F6BA-496B-834D-BF310EFE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B674-262E-4AE0-9D97-E862BD8E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61AB-A766-43CC-93D1-D25C391B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7665-B1FD-4DFD-9AC0-EECDEF93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B51D-F0B7-4AF0-A505-3CDAD743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31E5-E3CF-4941-A744-ED0968CC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654C-F30F-4F46-8E27-61880847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351B-6360-4CEC-9C7C-E3538177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4A0F-8339-4CD4-AB0E-3A46B3C2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F4D7-BD4C-49BE-8580-E89EA6DFF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3E98-F9CC-4044-B8F5-F277934E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84097-4F7C-442E-BCEF-A7525906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25FED-00A4-48F2-ACF4-C106D5DC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6D35F-24DE-4248-B5F7-43108860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8E2AB-5F3E-48C7-96FC-25E2E343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8F189-8842-4D4A-9C7C-EAD2CDE8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2920-FE86-4026-8AE8-DECCDBE4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21D4D-F2EE-4743-8D85-71E150F2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674EA-3BFF-487B-800B-B6C62B83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9315C-6B1A-4900-AAD7-3A1D83F4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FEBB0-A5EE-47AE-8676-12D78938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BE87E-EF6A-47BB-933A-92FB8F6A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6F12B-D654-46A8-81CF-CF315AC6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9BB9A-3EDE-486A-908A-8003F259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21DDA-409A-4A0A-B1F2-FDFE8D0C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B6AF6-A65C-4F20-94B7-214286DD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80269-C623-4503-A119-F0066910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BAAB-7294-48DA-9A2D-05CC8BDA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43B1A-4EFC-4D7D-A23B-5EE02EF9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BB1CA-61D9-4131-8546-E4ECA94C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1750C-E89A-4792-95C9-C105C8F2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FDA85-A31C-4BFF-808B-F059B8A1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D2298-C5EA-4F23-8CD7-23C13A28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DB053-447F-4991-A6D0-74BB7CBB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10EDF-FB3A-4305-A3F1-2C89D1AD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934AF-BBAD-4F4E-A489-2EF0D0F2D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8229E-FDA7-4E87-918E-1ECD0B4F9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45897-5C6E-41B3-9A16-52C7A676D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4A6B-4891-48A9-AB36-27857901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CD7F8-0477-42AD-ADBD-C447A8DD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DAB07-D300-4C8D-9C74-657010C9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872F8-725A-4682-BF3C-5F2CA324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4CE95-C4A5-4E7B-9DCF-5E073ABB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92D7B-3967-48FE-B346-C295325C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2E805-CAA6-4AC3-9D6C-0D35D9CE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B72EF-D55B-48F5-ACA6-D1526916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BD253-516F-46AB-95DF-EC7FF489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A347C-1EC4-448E-B664-58700305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B5891-3F7B-46EA-91D2-1BE4C7B64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EE44-B236-4338-A4AE-CAF7FF1E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45AC9-00B3-4771-89FE-4B2B1D4EA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FB4A3-DAC6-42B5-ABCF-CE356C62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0EF98-D23D-40BB-A8FC-EC2CF841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1F60E-231B-4240-8100-B3BFA615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D8436-7CAA-4D5C-B79A-98899414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9C3DB-8D70-41EA-BD3B-49B1D336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9CB6D-1C33-4947-9FBD-0BC21AB8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A4710-2CCA-4B86-9A1E-30E9B95C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415D9-74E4-499D-B263-7CEACF6F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0DE36-BD1D-4391-A9B2-9C7D22EA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6A14-2825-4D3C-A0D3-F936D695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1D34D-6FA5-4B04-8939-111F1FF0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A911D-DDF5-4F25-B03C-7020A6213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39DFB-265D-4BE7-995B-22031074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88AEC-E46B-4C9B-B2FD-5C6D965D8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53BCC-1FCF-4659-B31D-6E813E0F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62290-EF8E-4506-A51B-78077BC1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BDD79-42B3-4175-BC37-2EF7BB21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AF2AE-D164-41FC-872D-4658055B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DDFAA-1CB1-460C-9E41-94D1C640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EEAFB-C536-4CC1-9F5A-9F50E15D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5F04-1F1A-4096-9B93-697D21CF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68163-277E-416C-943C-9C2459CA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D50D9-660A-4901-A5CB-CB1958DF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CDFEB-D4BF-4A55-977B-4E8EFC0A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8A50A-F559-4B5E-8549-617F253C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BAA87-66D3-4EAF-B537-14E3B156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F118B-3E62-4C79-B41D-45B5BB5DC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4A40A-5F5F-4B53-A5DB-03EBBF5B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1510D-C6B1-47EF-8493-AC23292C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24B06-81D8-44A8-A5B4-077D184C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EB969-95C9-4090-926E-456D4925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65B1-6377-4C2B-8427-9348ACE7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9716D-6C84-4542-BB87-84A7809B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FA41F-FD67-4E45-99F2-8CCBE4CB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E2120-A4A0-42BF-9976-19B3D972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B3D8C-DEB3-482C-A9E9-DF0AF436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53FFE-36F0-49B7-9493-AF60845D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23519-461F-4587-9E6F-F90D7A6C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37186-ADAC-4807-BA71-1E10EA9C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9CA8D-AB18-497F-991F-C14D20F34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E7141-4BC2-43AA-9318-330CEEC6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8169C-92E9-4E45-B7C0-C5CA323A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E270-6571-477B-9223-0B31D241255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66BA-09FA-4DBC-AFC0-486841C6945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35B9-6B84-4C56-A915-7522AD4004D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42AA-7CCA-4D4B-BA63-2A9B7D6EB4C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0E4D-3589-4CE7-A13F-BC1C3E2FA41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EAAE-3F6A-4924-B681-E70439525D7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E5E2-F8A6-4F47-9378-B5139F8ECB9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B716-AAEF-4609-98F6-6A3EC724912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BD55-707C-4B93-BF6A-84498FDB78A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71EE-D3C3-490A-891C-BE259149912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EC77-CC60-4121-86E0-F4BB1097183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7D21-55D5-4CB4-8454-AC83EA9C918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1e19"/>
                </a:solidFill>
                <a:latin typeface="Arial"/>
                <a:ea typeface="Arial"/>
              </a:rPr>
              <a:t>Toplinsko širenje čvrstih tijel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44838"/>
                </a:solidFill>
                <a:latin typeface="Arial"/>
                <a:ea typeface="Arial"/>
              </a:rPr>
              <a:t>Unutarnja energija i toplin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Box 6"/>
          <p:cNvSpPr/>
          <p:nvPr/>
        </p:nvSpPr>
        <p:spPr>
          <a:xfrm>
            <a:off x="10800" y="1295280"/>
            <a:ext cx="46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plinsko širenje tekućina - v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7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2305080" cy="3438720"/>
          </a:xfrm>
          <a:prstGeom prst="rect">
            <a:avLst/>
          </a:prstGeom>
          <a:ln w="0">
            <a:noFill/>
          </a:ln>
        </p:spPr>
      </p:pic>
      <p:sp>
        <p:nvSpPr>
          <p:cNvPr id="570" name="TextBox 8"/>
          <p:cNvSpPr/>
          <p:nvPr/>
        </p:nvSpPr>
        <p:spPr>
          <a:xfrm>
            <a:off x="3048120" y="3048120"/>
            <a:ext cx="55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Što se događa s obujmom vode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boci  pri zagrijavanju i hlađenj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Slika 5" descr=""/>
          <p:cNvPicPr/>
          <p:nvPr/>
        </p:nvPicPr>
        <p:blipFill>
          <a:blip r:embed="rId2"/>
          <a:stretch/>
        </p:blipFill>
        <p:spPr>
          <a:xfrm>
            <a:off x="380880" y="776160"/>
            <a:ext cx="135756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Box 6"/>
          <p:cNvSpPr/>
          <p:nvPr/>
        </p:nvSpPr>
        <p:spPr>
          <a:xfrm>
            <a:off x="33120" y="1295280"/>
            <a:ext cx="592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isnost toplinskog širenja o vrsti tekuć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6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3124080" cy="3608640"/>
          </a:xfrm>
          <a:prstGeom prst="rect">
            <a:avLst/>
          </a:prstGeom>
          <a:ln w="0">
            <a:noFill/>
          </a:ln>
        </p:spPr>
      </p:pic>
      <p:sp>
        <p:nvSpPr>
          <p:cNvPr id="574" name="TextBox 8"/>
          <p:cNvSpPr/>
          <p:nvPr/>
        </p:nvSpPr>
        <p:spPr>
          <a:xfrm>
            <a:off x="3733920" y="4800600"/>
            <a:ext cx="43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sporedi toplinsk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širenje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dviju različiti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ekuć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6" descr="toplomjer"/>
          <p:cNvPicPr/>
          <p:nvPr/>
        </p:nvPicPr>
        <p:blipFill>
          <a:blip r:embed="rId2"/>
          <a:stretch/>
        </p:blipFill>
        <p:spPr>
          <a:xfrm>
            <a:off x="5943600" y="1523880"/>
            <a:ext cx="2990880" cy="2990880"/>
          </a:xfrm>
          <a:prstGeom prst="rect">
            <a:avLst/>
          </a:prstGeom>
          <a:ln w="0">
            <a:noFill/>
          </a:ln>
        </p:spPr>
      </p:pic>
      <p:pic>
        <p:nvPicPr>
          <p:cNvPr id="576" name="Slika 6" descr=""/>
          <p:cNvPicPr/>
          <p:nvPr/>
        </p:nvPicPr>
        <p:blipFill>
          <a:blip r:embed="rId3"/>
          <a:stretch/>
        </p:blipFill>
        <p:spPr>
          <a:xfrm>
            <a:off x="380880" y="828720"/>
            <a:ext cx="135756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b1e19"/>
                </a:solidFill>
                <a:latin typeface="Arial"/>
                <a:ea typeface="Arial"/>
              </a:rPr>
              <a:t>Toplinsko </a:t>
            </a:r>
            <a:r>
              <a:rPr b="0" lang="en-US" sz="3200" spc="-1" strike="noStrike">
                <a:solidFill>
                  <a:srgbClr val="fb1e19"/>
                </a:solidFill>
                <a:latin typeface="Arial"/>
                <a:ea typeface="Arial"/>
              </a:rPr>
              <a:t>širenje</a:t>
            </a:r>
            <a:r>
              <a:rPr b="0" lang="hr-HR" sz="3200" spc="-1" strike="noStrike">
                <a:solidFill>
                  <a:srgbClr val="fb1e19"/>
                </a:solidFill>
                <a:latin typeface="Arial"/>
                <a:ea typeface="Arial"/>
              </a:rPr>
              <a:t> tekućin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Box 3"/>
          <p:cNvSpPr/>
          <p:nvPr/>
        </p:nvSpPr>
        <p:spPr>
          <a:xfrm>
            <a:off x="533520" y="144792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ri zagrijavanju se tekući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šir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a pri hlađenju stež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zličite tekućine različito se š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2"/>
              <p:cNvSpPr txBox="1"/>
              <p:nvPr/>
            </p:nvSpPr>
            <p:spPr>
              <a:xfrm>
                <a:off x="990720" y="3505320"/>
                <a:ext cx="144288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0" name="TextBox 5"/>
          <p:cNvSpPr/>
          <p:nvPr/>
        </p:nvSpPr>
        <p:spPr>
          <a:xfrm>
            <a:off x="3151080" y="3581280"/>
            <a:ext cx="5094000" cy="1191240"/>
          </a:xfrm>
          <a:prstGeom prst="rect">
            <a:avLst/>
          </a:prstGeom>
          <a:solidFill>
            <a:srgbClr val="f2dcdb"/>
          </a:solidFill>
          <a:ln w="324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 porastom temperature smanj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e gustoća tekućine. Masa je stal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68112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b1e19"/>
                </a:solidFill>
                <a:latin typeface="Arial"/>
                <a:ea typeface="Arial"/>
              </a:rPr>
              <a:t>Anomalija vod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Box 3"/>
          <p:cNvSpPr/>
          <p:nvPr/>
        </p:nvSpPr>
        <p:spPr>
          <a:xfrm>
            <a:off x="1950480" y="1500120"/>
            <a:ext cx="5132160" cy="1191240"/>
          </a:xfrm>
          <a:prstGeom prst="rect">
            <a:avLst/>
          </a:prstGeom>
          <a:solidFill>
            <a:srgbClr val="f2dcdb"/>
          </a:solidFill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Zagrijavanjem vode od 0° C do 4° C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jezin se obujam smanju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4"/>
          <p:cNvSpPr/>
          <p:nvPr/>
        </p:nvSpPr>
        <p:spPr>
          <a:xfrm>
            <a:off x="1923480" y="5715000"/>
            <a:ext cx="50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oda ima najveću gustoću pri 4 °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2" descr=""/>
          <p:cNvPicPr/>
          <p:nvPr/>
        </p:nvPicPr>
        <p:blipFill>
          <a:blip r:embed="rId1"/>
          <a:stretch/>
        </p:blipFill>
        <p:spPr>
          <a:xfrm>
            <a:off x="2714760" y="2786040"/>
            <a:ext cx="318456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77112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b1e19"/>
                </a:solidFill>
                <a:latin typeface="Arial"/>
                <a:ea typeface="Arial"/>
              </a:rPr>
              <a:t>Toplinsko širenje plinov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4"/>
          <p:cNvSpPr/>
          <p:nvPr/>
        </p:nvSpPr>
        <p:spPr>
          <a:xfrm>
            <a:off x="914400" y="17524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grijavanjem se plin širi, a pri hlađenju stež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4"/>
          <p:cNvSpPr/>
          <p:nvPr/>
        </p:nvSpPr>
        <p:spPr>
          <a:xfrm>
            <a:off x="838080" y="3352680"/>
            <a:ext cx="7239240" cy="1191240"/>
          </a:xfrm>
          <a:prstGeom prst="rect">
            <a:avLst/>
          </a:prstGeom>
          <a:noFill/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Širenje plinova s porastom temperature mnogo je veće nego širenje tekuć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Box 3"/>
          <p:cNvSpPr/>
          <p:nvPr/>
        </p:nvSpPr>
        <p:spPr>
          <a:xfrm>
            <a:off x="-182880" y="1676520"/>
            <a:ext cx="96494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O čemu ovisi toplinsko širenje tijel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akva je razlika između toplinskog širenja tekućina, plinov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čvrstih tijel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3.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ako se porastom temperature tekućine mijenja njezina gustoć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Kako se tlak plina mijenja porastom temperatur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Zašto je temperaturna anomalija vode važna u prirod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Slika 2" descr=""/>
          <p:cNvPicPr/>
          <p:nvPr/>
        </p:nvPicPr>
        <p:blipFill>
          <a:blip r:embed="rId1"/>
          <a:stretch/>
        </p:blipFill>
        <p:spPr>
          <a:xfrm>
            <a:off x="457200" y="927000"/>
            <a:ext cx="320040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Box 4"/>
          <p:cNvSpPr/>
          <p:nvPr/>
        </p:nvSpPr>
        <p:spPr>
          <a:xfrm>
            <a:off x="380880" y="1447920"/>
            <a:ext cx="85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ko se žice dalekovoda ljeti izgledom razlikuju od onih zim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što ohlađena staklena boca pukne kad u nju ulijemo vrelu vod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3245040" cy="4572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5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297180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Box 6"/>
          <p:cNvSpPr/>
          <p:nvPr/>
        </p:nvSpPr>
        <p:spPr>
          <a:xfrm>
            <a:off x="24840" y="1295280"/>
            <a:ext cx="38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grijavanje metalne ku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0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2286000" cy="20764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1" descr=""/>
          <p:cNvPicPr/>
          <p:nvPr/>
        </p:nvPicPr>
        <p:blipFill>
          <a:blip r:embed="rId2"/>
          <a:stretch/>
        </p:blipFill>
        <p:spPr>
          <a:xfrm>
            <a:off x="4572000" y="2286000"/>
            <a:ext cx="2278080" cy="2057400"/>
          </a:xfrm>
          <a:prstGeom prst="rect">
            <a:avLst/>
          </a:prstGeom>
          <a:ln w="0">
            <a:noFill/>
          </a:ln>
        </p:spPr>
      </p:pic>
      <p:sp>
        <p:nvSpPr>
          <p:cNvPr id="550" name="TextBox 8"/>
          <p:cNvSpPr/>
          <p:nvPr/>
        </p:nvSpPr>
        <p:spPr>
          <a:xfrm>
            <a:off x="762120" y="487692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Što se događa s obujmom željezne kugle pri zagrijavanju i hlađenj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Slika 6" descr=""/>
          <p:cNvPicPr/>
          <p:nvPr/>
        </p:nvPicPr>
        <p:blipFill>
          <a:blip r:embed="rId3"/>
          <a:stretch/>
        </p:blipFill>
        <p:spPr>
          <a:xfrm>
            <a:off x="304920" y="765000"/>
            <a:ext cx="135720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b1e19"/>
                </a:solidFill>
                <a:latin typeface="Arial"/>
                <a:ea typeface="Arial"/>
              </a:rPr>
              <a:t>Toplinsko širenje čvrstih tijel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3"/>
          <p:cNvSpPr/>
          <p:nvPr/>
        </p:nvSpPr>
        <p:spPr>
          <a:xfrm>
            <a:off x="614160" y="1828800"/>
            <a:ext cx="57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bujam čvrstih tijela od želj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ovećava se  povišenjem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manjuje se pri snižavanju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Box 3"/>
          <p:cNvSpPr/>
          <p:nvPr/>
        </p:nvSpPr>
        <p:spPr>
          <a:xfrm>
            <a:off x="612720" y="685800"/>
            <a:ext cx="6064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b1e19"/>
                </a:solidFill>
                <a:latin typeface="Arial"/>
                <a:ea typeface="Arial"/>
              </a:rPr>
              <a:t>Toplinsko </a:t>
            </a:r>
            <a:r>
              <a:rPr b="0" lang="en-US" sz="2400" spc="-1" strike="noStrike">
                <a:solidFill>
                  <a:srgbClr val="fb1e19"/>
                </a:solidFill>
                <a:latin typeface="Arial"/>
                <a:ea typeface="Arial"/>
              </a:rPr>
              <a:t>širenje</a:t>
            </a:r>
            <a:r>
              <a:rPr b="0" lang="hr-HR" sz="2400" spc="-1" strike="noStrike">
                <a:solidFill>
                  <a:srgbClr val="fb1e19"/>
                </a:solidFill>
                <a:latin typeface="Arial"/>
                <a:ea typeface="Arial"/>
              </a:rPr>
              <a:t> nekog tijela</a:t>
            </a:r>
            <a:r>
              <a:rPr b="0" lang="en-US" sz="2400" spc="-1" strike="noStrike">
                <a:solidFill>
                  <a:srgbClr val="fb1e19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će je što je veće povišenje temperatur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će je što je tijelo veće duljin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isi i o vrsti materijal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1905120" y="3124080"/>
          <a:ext cx="5333760" cy="2925720"/>
        </p:xfrm>
        <a:graphic>
          <a:graphicData uri="http://schemas.openxmlformats.org/drawingml/2006/table">
            <a:tbl>
              <a:tblPr/>
              <a:tblGrid>
                <a:gridCol w="2666880"/>
                <a:gridCol w="2666880"/>
              </a:tblGrid>
              <a:tr h="3661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ljenje tijela duljine 1 m pri zagrijavanju za 1 °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j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ljen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n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26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umin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24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ka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17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jez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12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12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kl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9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Box 8"/>
          <p:cNvSpPr/>
          <p:nvPr/>
        </p:nvSpPr>
        <p:spPr>
          <a:xfrm>
            <a:off x="543240" y="1214280"/>
            <a:ext cx="8395200" cy="459720"/>
          </a:xfrm>
          <a:prstGeom prst="rect">
            <a:avLst/>
          </a:prstGeom>
          <a:solidFill>
            <a:srgbClr val="f2dcdb"/>
          </a:solidFill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iša temperatura – jače nasumično titranje  molekula u tijel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57150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"/>
          <p:cNvPicPr/>
          <p:nvPr/>
        </p:nvPicPr>
        <p:blipFill>
          <a:blip r:embed="rId1"/>
          <a:srcRect l="0" t="22514" r="0" b="21118"/>
          <a:stretch/>
        </p:blipFill>
        <p:spPr>
          <a:xfrm>
            <a:off x="152280" y="990720"/>
            <a:ext cx="1817640" cy="457200"/>
          </a:xfrm>
          <a:prstGeom prst="rect">
            <a:avLst/>
          </a:prstGeom>
          <a:ln w="0">
            <a:noFill/>
          </a:ln>
        </p:spPr>
      </p:pic>
      <p:sp>
        <p:nvSpPr>
          <p:cNvPr id="559" name="TextBox 5"/>
          <p:cNvSpPr/>
          <p:nvPr/>
        </p:nvSpPr>
        <p:spPr>
          <a:xfrm>
            <a:off x="838080" y="171468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apravi jednostavnu “bimetalnu” traku 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aluminijske folije i papira te ispitaj učin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oplinskog rastezan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2" descr=""/>
          <p:cNvPicPr/>
          <p:nvPr/>
        </p:nvPicPr>
        <p:blipFill>
          <a:blip r:embed="rId2"/>
          <a:stretch/>
        </p:blipFill>
        <p:spPr>
          <a:xfrm>
            <a:off x="5181480" y="3124080"/>
            <a:ext cx="1695600" cy="27640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5" descr="bimetalni termostat"/>
          <p:cNvPicPr/>
          <p:nvPr/>
        </p:nvPicPr>
        <p:blipFill>
          <a:blip r:embed="rId3"/>
          <a:stretch/>
        </p:blipFill>
        <p:spPr>
          <a:xfrm>
            <a:off x="838080" y="3124080"/>
            <a:ext cx="3124440" cy="312444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6"/>
          <p:cNvSpPr/>
          <p:nvPr/>
        </p:nvSpPr>
        <p:spPr>
          <a:xfrm>
            <a:off x="1046880" y="5519880"/>
            <a:ext cx="2225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Bimetalni termostat 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električna glačala uključuje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sključuje struju prema grijač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1e19"/>
                </a:solidFill>
                <a:latin typeface="Arial"/>
                <a:ea typeface="Arial"/>
              </a:rPr>
              <a:t>Toplinsko širenje </a:t>
            </a:r>
            <a:br>
              <a:rPr sz="4400"/>
            </a:br>
            <a:r>
              <a:rPr b="1" lang="en-US" sz="4400" spc="-1" strike="noStrike">
                <a:solidFill>
                  <a:srgbClr val="fb1e19"/>
                </a:solidFill>
                <a:latin typeface="Arial"/>
                <a:ea typeface="Arial"/>
              </a:rPr>
              <a:t> tekući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44838"/>
                </a:solidFill>
                <a:latin typeface="Arial"/>
                <a:ea typeface="Arial"/>
              </a:rPr>
              <a:t>Unutarnja energija i toplin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Box 4"/>
          <p:cNvSpPr/>
          <p:nvPr/>
        </p:nvSpPr>
        <p:spPr>
          <a:xfrm>
            <a:off x="380880" y="1447920"/>
            <a:ext cx="85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što se voda u morima i rijekama zimi smrzava najprije na površin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što je to važno za život u vod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2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3245040" cy="4572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"/>
          <p:cNvPicPr/>
          <p:nvPr/>
        </p:nvPicPr>
        <p:blipFill>
          <a:blip r:embed="rId2"/>
          <a:stretch/>
        </p:blipFill>
        <p:spPr>
          <a:xfrm>
            <a:off x="3429000" y="3352680"/>
            <a:ext cx="345744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42:31Z</dcterms:created>
  <dc:creator>Slavko</dc:creator>
  <dc:description/>
  <dc:language>en-US</dc:language>
  <cp:lastModifiedBy>Tomislav Dumančić</cp:lastModifiedBy>
  <dcterms:modified xsi:type="dcterms:W3CDTF">2019-09-17T08:49:58Z</dcterms:modified>
  <cp:revision>28</cp:revision>
  <dc:subject/>
  <dc:title>Slide 1</dc:title>
</cp:coreProperties>
</file>